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EB394-8BFA-47AD-B5CF-33008BAD3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7944B-8090-4991-8855-DA356B35F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30AA6-E0CE-477A-A878-5C8367AF8B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0830F-3C08-4921-9F31-00A9631CE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EFE36-FAC8-48BA-A9D6-B00D5F845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1A701-1DCE-4241-A728-A85206908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BED6B-784F-4729-952A-00721E670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8D791-ED9A-4D8E-929D-F8E1FD522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C1C1F-2776-4ED6-B75D-D280B4269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41DB5-C614-4901-9C0B-41948C20D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C0F42-BE01-4A19-B4F9-698DA1D25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C74D9-34BF-4AF3-825F-5D2F375F3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E6475-D735-44CE-A8DE-8260C10794A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980720"/>
            <a:ext cx="8001000" cy="304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cb"/>
                </a:solidFill>
                <a:latin typeface="Arial"/>
              </a:rPr>
              <a:t>The following political cartoon was created by Benjamin Franklin in 1754, shortly after war had broken out between the French and English (what became known as the French and Indian War). Many historians think this was the first political cartoon to appear in an American newspaper. It was printed in the Pennsylvania Gazette soon after delegates from English colonies met to discuss whether they should fight against the French.</a:t>
            </a:r>
            <a:endParaRPr b="0" lang="en-US" sz="3200" spc="-1" strike="noStrike">
              <a:solidFill>
                <a:srgbClr val="d1d1c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4" name="" descr=""/>
          <p:cNvPicPr/>
          <p:nvPr/>
        </p:nvPicPr>
        <p:blipFill>
          <a:blip r:embed="rId1"/>
          <a:stretch/>
        </p:blipFill>
        <p:spPr>
          <a:xfrm>
            <a:off x="914400" y="990720"/>
            <a:ext cx="7315200" cy="48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5486040" y="1066680"/>
            <a:ext cx="3352680" cy="327672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this cartoon, what does the snake stand for?</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 does each abbreviation stand for?</a:t>
            </a:r>
            <a:endParaRPr b="0" lang="en-US" sz="2800" spc="-1" strike="noStrike">
              <a:solidFill>
                <a:srgbClr val="ffffff"/>
              </a:solidFill>
              <a:latin typeface="Arial"/>
            </a:endParaRPr>
          </a:p>
        </p:txBody>
      </p:sp>
      <p:pic>
        <p:nvPicPr>
          <p:cNvPr id="46" name="" descr=""/>
          <p:cNvPicPr/>
          <p:nvPr/>
        </p:nvPicPr>
        <p:blipFill>
          <a:blip r:embed="rId1"/>
          <a:stretch/>
        </p:blipFill>
        <p:spPr>
          <a:xfrm>
            <a:off x="304920" y="838080"/>
            <a:ext cx="5029200" cy="3353040"/>
          </a:xfrm>
          <a:prstGeom prst="rect">
            <a:avLst/>
          </a:prstGeom>
          <a:ln w="0">
            <a:noFill/>
          </a:ln>
        </p:spPr>
      </p:pic>
      <p:sp>
        <p:nvSpPr>
          <p:cNvPr id="47" name=""/>
          <p:cNvSpPr/>
          <p:nvPr/>
        </p:nvSpPr>
        <p:spPr>
          <a:xfrm>
            <a:off x="838080" y="4495680"/>
            <a:ext cx="7925040" cy="14626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 do you think Franklin’s message wa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o you think this cartoon communicates his message effectively? Why or why no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8T13:13:08Z</dcterms:created>
  <dc:creator>YHS Teacher</dc:creator>
  <dc:description/>
  <dc:language>en-US</dc:language>
  <cp:lastModifiedBy>user</cp:lastModifiedBy>
  <dcterms:modified xsi:type="dcterms:W3CDTF">2010-10-12T10:28:02Z</dcterms:modified>
  <cp:revision>3</cp:revision>
  <dc:subject/>
  <dc:title>The following political cartoon was created by Benjamin Franklin in 1754, shortly after war had broken out between the French and English. Many historians think this was the first political cartoon to appear in an American newspaper. It was printed in the Pennsylvania Gazette soon after delegates from English colonies met to discuss whether they should fight against the French.</dc:title>
</cp:coreProperties>
</file>